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201400" y="2190600"/>
            <a:ext cx="29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教师资格认定流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295360" y="3000240"/>
            <a:ext cx="32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申请人网上申请流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295360" y="3809880"/>
            <a:ext cx="32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申请人需提交的材料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201400" y="4618080"/>
            <a:ext cx="29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学校需提交的材料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482920" y="542772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申请人需提交材料的要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2288160" y="9111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山东省高校教师资格认定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  <a:ea typeface="宋体"/>
            </a:endParaRPr>
          </a:p>
        </p:txBody>
      </p:sp>
      <p:pic>
        <p:nvPicPr>
          <p:cNvPr id="130" name="Picture 2" descr="C:\Users\LiH\Desktop\2014年教师资格认证\66.jpg"/>
          <p:cNvPicPr/>
          <p:nvPr/>
        </p:nvPicPr>
        <p:blipFill>
          <a:blip r:embed="rId2"/>
          <a:stretch/>
        </p:blipFill>
        <p:spPr>
          <a:xfrm>
            <a:off x="9360" y="1249200"/>
            <a:ext cx="9134640" cy="406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LiH\Desktop\2014年教师资格认证\77.jpg"/>
          <p:cNvPicPr/>
          <p:nvPr/>
        </p:nvPicPr>
        <p:blipFill>
          <a:blip r:embed="rId2"/>
          <a:stretch/>
        </p:blipFill>
        <p:spPr>
          <a:xfrm>
            <a:off x="38160" y="1542960"/>
            <a:ext cx="9077400" cy="370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  <a:ea typeface="宋体"/>
            </a:endParaRPr>
          </a:p>
        </p:txBody>
      </p:sp>
      <p:pic>
        <p:nvPicPr>
          <p:cNvPr id="133" name="Picture 2" descr="C:\Users\LiH\Desktop\2014年教师资格认证\88.jpg"/>
          <p:cNvPicPr/>
          <p:nvPr/>
        </p:nvPicPr>
        <p:blipFill>
          <a:blip r:embed="rId2"/>
          <a:stretch/>
        </p:blipFill>
        <p:spPr>
          <a:xfrm>
            <a:off x="0" y="1646280"/>
            <a:ext cx="9144000" cy="376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  <a:ea typeface="宋体"/>
            </a:endParaRPr>
          </a:p>
        </p:txBody>
      </p:sp>
      <p:pic>
        <p:nvPicPr>
          <p:cNvPr id="135" name="Picture 3" descr="C:\Users\LiH\Desktop\04a08df14b191423171716bb0196f50a.jpeg"/>
          <p:cNvPicPr/>
          <p:nvPr/>
        </p:nvPicPr>
        <p:blipFill>
          <a:blip r:embed="rId2"/>
          <a:stretch/>
        </p:blipFill>
        <p:spPr>
          <a:xfrm>
            <a:off x="0" y="914400"/>
            <a:ext cx="9159840" cy="5019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2"/>
          <p:cNvSpPr/>
          <p:nvPr/>
        </p:nvSpPr>
        <p:spPr>
          <a:xfrm>
            <a:off x="4191120" y="5315040"/>
            <a:ext cx="761760" cy="533160"/>
          </a:xfrm>
          <a:prstGeom prst="ellipse">
            <a:avLst/>
          </a:prstGeom>
          <a:noFill/>
          <a:ln cap="rnd"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  <a:ea typeface="宋体"/>
            </a:endParaRPr>
          </a:p>
        </p:txBody>
      </p:sp>
      <p:pic>
        <p:nvPicPr>
          <p:cNvPr id="138" name="Picture 2" descr="C:\Users\LiH\Desktop\2014年教师资格认证\1212.jpg"/>
          <p:cNvPicPr/>
          <p:nvPr/>
        </p:nvPicPr>
        <p:blipFill>
          <a:blip r:embed="rId2"/>
          <a:stretch/>
        </p:blipFill>
        <p:spPr>
          <a:xfrm>
            <a:off x="1919160" y="1052640"/>
            <a:ext cx="5305680" cy="47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04920" y="1143000"/>
            <a:ext cx="86104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⑴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校应组织申请人按照要求的时间、方法进行网上报名，报名截止日期系统将自动关闭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⑵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网上填写的数据须与《教师资格认定申请表》上的数据完全一致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⑶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校在上报纸质材料前，必须在网报系统中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以下人员标注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确认未通过”状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符合高等学校教师资格认定条件的人员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.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只在网上填报但未提交申请材料的人员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39640" y="260280"/>
            <a:ext cx="73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网上报名应注意哪些方面？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1905120" y="2590920"/>
            <a:ext cx="510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77000"/>
                    </a:srgbClr>
                  </a:outerShdw>
                </a:effectLst>
                <a:latin typeface="宋体"/>
              </a:rPr>
              <a:t>报送材料要求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914400" y="2514600"/>
            <a:ext cx="8229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申请人需提交的材料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"/>
          <p:cNvSpPr/>
          <p:nvPr/>
        </p:nvSpPr>
        <p:spPr>
          <a:xfrm>
            <a:off x="324000" y="76212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Calibri"/>
              </a:rPr>
              <a:t>一、申请人现场确认须递交的材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《教师资格申请表》一式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份，使用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3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纸双面打印或胶印，不可复印，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表中内容须与网上申报系统数据完全一致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身份证复印件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学历证书复印件（需同时提供最高学历和本科学历证书复印件，国外学历需同时提供教育部国外学历学位认证书复印件）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高校教师岗前培训合格证或教育基础理论知识考试合格证复印件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"/>
          <p:cNvSpPr/>
          <p:nvPr/>
        </p:nvSpPr>
        <p:spPr>
          <a:xfrm>
            <a:off x="324000" y="8380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Calibri"/>
              </a:rPr>
              <a:t>一、申请人现场确认须递交的材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普通话水平测试等级证书复印件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《教师资格申请人思想品德鉴定表》（由各单位书记签字盖章）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《山东省教师资格申请人员体格检查表》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《山东省高等学校教师资格认定教育教学基本素质和能力测试表》（免试的不需要）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近期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寸半身免冠正面彩色证件照片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张（须与申请表和体检表上的照片一致）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6"/>
          <p:cNvSpPr/>
          <p:nvPr/>
        </p:nvSpPr>
        <p:spPr>
          <a:xfrm>
            <a:off x="1538280" y="533520"/>
            <a:ext cx="610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教师资格认定工作流程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2160" y="2554560"/>
            <a:ext cx="54612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准备阶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346640" y="2226600"/>
            <a:ext cx="546120" cy="258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个人网上申报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438880" y="2226600"/>
            <a:ext cx="546120" cy="258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学校现场确认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607080" y="2226600"/>
            <a:ext cx="546120" cy="258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认定机构审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1538280" y="3430440"/>
            <a:ext cx="56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矩形 14"/>
          <p:cNvSpPr/>
          <p:nvPr/>
        </p:nvSpPr>
        <p:spPr>
          <a:xfrm>
            <a:off x="1748880" y="1612800"/>
            <a:ext cx="911880" cy="363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教育基础理论知识考试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矩形 16"/>
          <p:cNvSpPr/>
          <p:nvPr/>
        </p:nvSpPr>
        <p:spPr>
          <a:xfrm>
            <a:off x="3254400" y="756360"/>
            <a:ext cx="546120" cy="548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教育教学基本素质和能力测试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772400" y="2548080"/>
            <a:ext cx="546120" cy="193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认定结束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2708280" y="3419640"/>
            <a:ext cx="56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3800520" y="3419640"/>
            <a:ext cx="56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892760" y="3395520"/>
            <a:ext cx="56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5985000" y="3390840"/>
            <a:ext cx="56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7153200" y="3397320"/>
            <a:ext cx="56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3"/>
          <p:cNvSpPr/>
          <p:nvPr/>
        </p:nvSpPr>
        <p:spPr>
          <a:xfrm>
            <a:off x="380880" y="4572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Calibri"/>
              </a:rPr>
              <a:t>一、申请人现场确认须递交的材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师范教育类本科毕业的申请人，还需提供本科学习期间的学业成绩登记表复印件（包含有教育学、心理学合格成绩及教育教学实习成绩），如材料不全需提供本科毕业院校教务部门开具的证明材料，以证明本科阶段所学专业为师范专业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、免除普通话测试及教育教学能力测评的申请人，还需提供拟聘教授、副教授职务的证明材料或博士学位证书原件和复印件；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8229600" cy="7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申请人需提交材料的要求</a:t>
            </a:r>
            <a:endParaRPr b="0" lang="en-US" sz="49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图片1副本"/>
          <p:cNvPicPr/>
          <p:nvPr/>
        </p:nvPicPr>
        <p:blipFill>
          <a:blip r:embed="rId2"/>
          <a:stretch/>
        </p:blipFill>
        <p:spPr>
          <a:xfrm>
            <a:off x="76320" y="152280"/>
            <a:ext cx="4451400" cy="66294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3"/>
          <p:cNvSpPr/>
          <p:nvPr/>
        </p:nvSpPr>
        <p:spPr>
          <a:xfrm>
            <a:off x="4572000" y="2057400"/>
            <a:ext cx="4572000" cy="2209680"/>
          </a:xfrm>
          <a:prstGeom prst="wedgeRoundRectCallout">
            <a:avLst>
              <a:gd name="adj1" fmla="val -8990"/>
              <a:gd name="adj2" fmla="val 34939"/>
              <a:gd name="adj3" fmla="val 16667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《教师资格认定申请表》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填写的数据须与网上填写的完全一致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3657600" y="152280"/>
            <a:ext cx="617400" cy="533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4"/>
          <a:stretch/>
        </p:blipFill>
        <p:spPr>
          <a:xfrm>
            <a:off x="762120" y="3505320"/>
            <a:ext cx="1143000" cy="39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图片1副本"/>
          <p:cNvPicPr/>
          <p:nvPr/>
        </p:nvPicPr>
        <p:blipFill>
          <a:blip r:embed="rId2"/>
          <a:stretch/>
        </p:blipFill>
        <p:spPr>
          <a:xfrm>
            <a:off x="76320" y="152280"/>
            <a:ext cx="4451400" cy="6629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4038480" y="2666880"/>
            <a:ext cx="4788000" cy="520560"/>
          </a:xfrm>
          <a:prstGeom prst="rect">
            <a:avLst/>
          </a:prstGeom>
          <a:solidFill>
            <a:srgbClr val="f7e993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表格封面“工作单位”应填学校全称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838080" y="3352680"/>
            <a:ext cx="1008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762120" y="3505320"/>
            <a:ext cx="1143000" cy="39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3657600" y="152280"/>
            <a:ext cx="617400" cy="5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图片1副本"/>
          <p:cNvPicPr/>
          <p:nvPr/>
        </p:nvPicPr>
        <p:blipFill>
          <a:blip r:embed="rId2"/>
          <a:stretch/>
        </p:blipFill>
        <p:spPr>
          <a:xfrm>
            <a:off x="76320" y="152280"/>
            <a:ext cx="4451400" cy="662940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1905120" y="2286000"/>
            <a:ext cx="1439640" cy="1440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5029200" y="2209680"/>
            <a:ext cx="3672000" cy="3167280"/>
          </a:xfrm>
          <a:prstGeom prst="wedgeRoundRectCallout">
            <a:avLst>
              <a:gd name="adj1" fmla="val -85194"/>
              <a:gd name="adj2" fmla="val -24587"/>
              <a:gd name="adj3" fmla="val 16667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申请表封面需盖学校的公章（如“山东师范大学”），二级学院公章（如“山东师范大学体育学院”）无效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3657600" y="152280"/>
            <a:ext cx="617400" cy="533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762120" y="3505320"/>
            <a:ext cx="1143000" cy="39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图片2"/>
          <p:cNvPicPr/>
          <p:nvPr/>
        </p:nvPicPr>
        <p:blipFill>
          <a:blip r:embed="rId2"/>
          <a:stretch/>
        </p:blipFill>
        <p:spPr>
          <a:xfrm>
            <a:off x="152280" y="152280"/>
            <a:ext cx="4470480" cy="647712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3733920" y="1981080"/>
            <a:ext cx="5181480" cy="3124440"/>
          </a:xfrm>
          <a:prstGeom prst="wedgeRoundRectCallout">
            <a:avLst>
              <a:gd name="adj1" fmla="val -87532"/>
              <a:gd name="adj2" fmla="val -34351"/>
              <a:gd name="adj3" fmla="val 16667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996633"/>
                </a:solidFill>
                <a:uFillTx/>
                <a:latin typeface="Arial"/>
              </a:rPr>
              <a:t>毕业学校</a:t>
            </a: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”和“</a:t>
            </a:r>
            <a:r>
              <a:rPr b="0" lang="zh-CN" sz="2800" spc="-1" strike="noStrike" u="sng">
                <a:solidFill>
                  <a:srgbClr val="996633"/>
                </a:solidFill>
                <a:uFillTx/>
                <a:latin typeface="Arial"/>
              </a:rPr>
              <a:t>所学专业</a:t>
            </a: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”按毕业证书填写；教师“</a:t>
            </a:r>
            <a:r>
              <a:rPr b="1" lang="zh-CN" sz="2800" spc="-1" strike="noStrike" u="sng">
                <a:solidFill>
                  <a:srgbClr val="996633"/>
                </a:solidFill>
                <a:uFillTx/>
                <a:latin typeface="Arial"/>
              </a:rPr>
              <a:t>申请任教学科（课程）”</a:t>
            </a:r>
            <a:r>
              <a:rPr b="0" lang="zh-CN" sz="2800" spc="-1" strike="noStrike">
                <a:solidFill>
                  <a:srgbClr val="996633"/>
                </a:solidFill>
                <a:latin typeface="Arial"/>
              </a:rPr>
              <a:t>原则上应与其所学专业或任教学科相一致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152280" y="167652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52280" y="198108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179280" y="342900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1217520" cy="167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图片2"/>
          <p:cNvPicPr/>
          <p:nvPr/>
        </p:nvPicPr>
        <p:blipFill>
          <a:blip r:embed="rId2"/>
          <a:stretch/>
        </p:blipFill>
        <p:spPr>
          <a:xfrm>
            <a:off x="152280" y="152280"/>
            <a:ext cx="4470480" cy="6477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1217520" cy="1676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304920" y="1981080"/>
            <a:ext cx="396072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2819520" y="2819520"/>
            <a:ext cx="6019560" cy="1944720"/>
          </a:xfrm>
          <a:prstGeom prst="wedgeRoundRectCallout">
            <a:avLst>
              <a:gd name="adj1" fmla="val -40717"/>
              <a:gd name="adj2" fmla="val -69101"/>
              <a:gd name="adj3" fmla="val 16667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如申请人本科毕业后，通过在职人员学位申请取得了硕士学位，其“最高学位”填写“硕士”，但“最高学历”仍填写“大学本科”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图片2"/>
          <p:cNvPicPr/>
          <p:nvPr/>
        </p:nvPicPr>
        <p:blipFill>
          <a:blip r:embed="rId2"/>
          <a:stretch/>
        </p:blipFill>
        <p:spPr>
          <a:xfrm>
            <a:off x="152280" y="152280"/>
            <a:ext cx="4470480" cy="6477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1217520" cy="16761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0" y="3733920"/>
            <a:ext cx="2819520" cy="99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3429000" y="533520"/>
            <a:ext cx="5486400" cy="4800600"/>
          </a:xfrm>
          <a:prstGeom prst="wedgeRoundRectCallout">
            <a:avLst>
              <a:gd name="adj1" fmla="val -66203"/>
              <a:gd name="adj2" fmla="val -527"/>
              <a:gd name="adj3" fmla="val 16667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本人简历”从初中学习阶段填起，先填写所有的学习经历，再写工作经历，现工作经历写到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至今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如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                                   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学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经历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工作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                                    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经历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733920" y="2971800"/>
          <a:ext cx="3657600" cy="841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1993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年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月至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1996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年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7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月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潍坊第一中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1996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年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月至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2000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年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月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山东师范大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733920" y="4038480"/>
          <a:ext cx="3581280" cy="809640"/>
        </p:xfrm>
        <a:graphic>
          <a:graphicData uri="http://schemas.openxmlformats.org/drawingml/2006/table">
            <a:tbl>
              <a:tblPr/>
              <a:tblGrid>
                <a:gridCol w="1790640"/>
                <a:gridCol w="179064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2000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年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月至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2002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年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7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月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XXXXX</a:t>
                      </a:r>
                      <a:r>
                        <a:rPr b="1" lang="zh-CN" sz="1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学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2002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年</a:t>
                      </a:r>
                      <a:r>
                        <a:rPr b="1" lang="en-US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7</a:t>
                      </a:r>
                      <a:r>
                        <a:rPr b="1" lang="zh-CN" sz="12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月</a:t>
                      </a:r>
                      <a:r>
                        <a:rPr b="1" lang="zh-CN" sz="1200" spc="-1" strike="noStrike">
                          <a:solidFill>
                            <a:srgbClr val="ff0000"/>
                          </a:solidFill>
                          <a:latin typeface="Segoe"/>
                          <a:ea typeface="宋体"/>
                        </a:rPr>
                        <a:t>至今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XXXX</a:t>
                      </a:r>
                      <a:r>
                        <a:rPr b="1" lang="zh-CN" sz="1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学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图片2"/>
          <p:cNvPicPr/>
          <p:nvPr/>
        </p:nvPicPr>
        <p:blipFill>
          <a:blip r:embed="rId2"/>
          <a:stretch/>
        </p:blipFill>
        <p:spPr>
          <a:xfrm>
            <a:off x="152280" y="152280"/>
            <a:ext cx="4470480" cy="6477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1217520" cy="16761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2514600" y="3733920"/>
            <a:ext cx="2286000" cy="99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76320" y="457200"/>
            <a:ext cx="9067680" cy="2666880"/>
          </a:xfrm>
          <a:prstGeom prst="wedgeRoundRectCallout">
            <a:avLst>
              <a:gd name="adj1" fmla="val -12745"/>
              <a:gd name="adj2" fmla="val 39046"/>
              <a:gd name="adj3" fmla="val 16667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143000"/>
          <a:ext cx="4129200" cy="1251000"/>
        </p:xfrm>
        <a:graphic>
          <a:graphicData uri="http://schemas.openxmlformats.org/drawingml/2006/table">
            <a:tbl>
              <a:tblPr/>
              <a:tblGrid>
                <a:gridCol w="2023920"/>
                <a:gridCol w="885960"/>
                <a:gridCol w="1219320"/>
              </a:tblGrid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单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职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证明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山东师范大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学生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刘颂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24280" y="1143000"/>
          <a:ext cx="4129200" cy="1281240"/>
        </p:xfrm>
        <a:graphic>
          <a:graphicData uri="http://schemas.openxmlformats.org/drawingml/2006/table">
            <a:tbl>
              <a:tblPr/>
              <a:tblGrid>
                <a:gridCol w="2023920"/>
                <a:gridCol w="885960"/>
                <a:gridCol w="1219320"/>
              </a:tblGrid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单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职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证明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山东师范大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校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6633"/>
                          </a:solidFill>
                          <a:latin typeface="Segoe"/>
                          <a:ea typeface="宋体"/>
                        </a:rPr>
                        <a:t>刘颂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34"/>
          <p:cNvSpPr/>
          <p:nvPr/>
        </p:nvSpPr>
        <p:spPr>
          <a:xfrm rot="566400">
            <a:off x="7162560" y="1676160"/>
            <a:ext cx="93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X</a:t>
            </a:r>
            <a:endParaRPr b="0" lang="en-US" sz="1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2895480" y="1676520"/>
            <a:ext cx="1368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√</a:t>
            </a:r>
            <a:endParaRPr b="0" lang="en-US" sz="10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0" y="457200"/>
            <a:ext cx="43434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思想品德鉴定意见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填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良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身体和健康状况：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填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良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253040" cy="6400800"/>
          </a:xfrm>
          <a:prstGeom prst="rect">
            <a:avLst/>
          </a:prstGeom>
          <a:ln w="0">
            <a:noFill/>
          </a:ln>
        </p:spPr>
      </p:pic>
      <p:sp>
        <p:nvSpPr>
          <p:cNvPr id="187" name="Oval 4"/>
          <p:cNvSpPr/>
          <p:nvPr/>
        </p:nvSpPr>
        <p:spPr>
          <a:xfrm>
            <a:off x="1752480" y="914400"/>
            <a:ext cx="533520" cy="304920"/>
          </a:xfrm>
          <a:prstGeom prst="ellipse">
            <a:avLst/>
          </a:prstGeom>
          <a:noFill/>
          <a:ln w="27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1752480" y="533520"/>
            <a:ext cx="533520" cy="380880"/>
          </a:xfrm>
          <a:prstGeom prst="ellipse">
            <a:avLst/>
          </a:prstGeom>
          <a:noFill/>
          <a:ln w="27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582480" y="109368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高校教师资格证办理流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415800" y="2095560"/>
            <a:ext cx="432000" cy="252396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个人填表申请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23"/>
          <p:cNvSpPr/>
          <p:nvPr/>
        </p:nvSpPr>
        <p:spPr>
          <a:xfrm>
            <a:off x="8126280" y="2095560"/>
            <a:ext cx="395280" cy="202068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发放证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61"/>
          <p:cNvSpPr/>
          <p:nvPr/>
        </p:nvSpPr>
        <p:spPr>
          <a:xfrm>
            <a:off x="1222200" y="2095560"/>
            <a:ext cx="360360" cy="21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处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审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AutoShape 65"/>
          <p:cNvSpPr/>
          <p:nvPr/>
        </p:nvSpPr>
        <p:spPr>
          <a:xfrm>
            <a:off x="5113440" y="2095560"/>
            <a:ext cx="433440" cy="373392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认定指导中心审核材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AutoShape 69"/>
          <p:cNvSpPr/>
          <p:nvPr/>
        </p:nvSpPr>
        <p:spPr>
          <a:xfrm>
            <a:off x="6656400" y="2095560"/>
            <a:ext cx="360360" cy="186696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打印证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AutoShape 78"/>
          <p:cNvSpPr/>
          <p:nvPr/>
        </p:nvSpPr>
        <p:spPr>
          <a:xfrm>
            <a:off x="7391520" y="2095560"/>
            <a:ext cx="360360" cy="281124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教育厅盖章验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1957320" y="2095560"/>
            <a:ext cx="360360" cy="281124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确定是否师范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65"/>
          <p:cNvSpPr/>
          <p:nvPr/>
        </p:nvSpPr>
        <p:spPr>
          <a:xfrm>
            <a:off x="4307040" y="2095560"/>
            <a:ext cx="433080" cy="252396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汇总申报材料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5"/>
          <p:cNvSpPr/>
          <p:nvPr/>
        </p:nvSpPr>
        <p:spPr>
          <a:xfrm>
            <a:off x="2692440" y="2095560"/>
            <a:ext cx="433440" cy="252396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组织体检测试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AutoShape 69"/>
          <p:cNvSpPr/>
          <p:nvPr/>
        </p:nvSpPr>
        <p:spPr>
          <a:xfrm>
            <a:off x="5921280" y="2095560"/>
            <a:ext cx="360360" cy="252396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省教育厅复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3500280" y="2095560"/>
            <a:ext cx="432000" cy="252396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"/>
                <a:ea typeface="楷体"/>
              </a:rPr>
              <a:t>个人网上申报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右箭头 122"/>
          <p:cNvSpPr/>
          <p:nvPr/>
        </p:nvSpPr>
        <p:spPr>
          <a:xfrm>
            <a:off x="415800" y="1714680"/>
            <a:ext cx="8105760" cy="228600"/>
          </a:xfrm>
          <a:prstGeom prst="rightArrow">
            <a:avLst>
              <a:gd name="adj1" fmla="val 50000"/>
              <a:gd name="adj2" fmla="val 50068"/>
            </a:avLst>
          </a:prstGeom>
          <a:solidFill>
            <a:srgbClr val="96cf63"/>
          </a:solidFill>
          <a:ln cap="rnd" w="25560">
            <a:solidFill>
              <a:srgbClr val="96cf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572000" y="152280"/>
            <a:ext cx="43434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修学教育学（高等教育学）、教育心理学（高等教育心理学）课程情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填写内容如下（用黑色签字笔填写）：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修学教育学、心理学课程，并合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修学高等教育学、高等心理学课程，并合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符合师范教育类专业毕业生特许条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符合其他特许条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不合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253040" cy="6400800"/>
          </a:xfrm>
          <a:prstGeom prst="rect">
            <a:avLst/>
          </a:prstGeom>
          <a:ln w="0">
            <a:noFill/>
          </a:ln>
        </p:spPr>
      </p:pic>
      <p:sp>
        <p:nvSpPr>
          <p:cNvPr id="191" name="Oval 4"/>
          <p:cNvSpPr/>
          <p:nvPr/>
        </p:nvSpPr>
        <p:spPr>
          <a:xfrm>
            <a:off x="1600200" y="1143000"/>
            <a:ext cx="2666880" cy="762120"/>
          </a:xfrm>
          <a:prstGeom prst="ellipse">
            <a:avLst/>
          </a:prstGeom>
          <a:noFill/>
          <a:ln w="27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572000" y="2133720"/>
            <a:ext cx="4343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⑻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育教学能力测试结果由测试机构填写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253040" cy="6400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4" name="Oval 4"/>
          <p:cNvSpPr/>
          <p:nvPr/>
        </p:nvSpPr>
        <p:spPr>
          <a:xfrm>
            <a:off x="2057400" y="2438280"/>
            <a:ext cx="838080" cy="990720"/>
          </a:xfrm>
          <a:prstGeom prst="ellipse">
            <a:avLst/>
          </a:prstGeom>
          <a:noFill/>
          <a:ln w="27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3048120" y="2514600"/>
            <a:ext cx="1371600" cy="914400"/>
          </a:xfrm>
          <a:prstGeom prst="ellipse">
            <a:avLst/>
          </a:prstGeom>
          <a:noFill/>
          <a:ln w="27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矩形 1"/>
          <p:cNvSpPr/>
          <p:nvPr/>
        </p:nvSpPr>
        <p:spPr>
          <a:xfrm>
            <a:off x="380880" y="2514600"/>
            <a:ext cx="4038840" cy="914400"/>
          </a:xfrm>
          <a:prstGeom prst="rect">
            <a:avLst/>
          </a:prstGeom>
          <a:noFill/>
          <a:ln cap="rnd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648320" y="1295280"/>
            <a:ext cx="426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教师资格认定专家审查委员会审查意见”栏，接受委托认定的普通高等学校要作出是否认定的结论，并盖学校审查委员会印章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未接受委托的高校不用填写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意见和盖章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166680" y="165240"/>
            <a:ext cx="4253040" cy="6400800"/>
          </a:xfrm>
          <a:prstGeom prst="rect">
            <a:avLst/>
          </a:prstGeom>
          <a:ln w="0">
            <a:noFill/>
          </a:ln>
        </p:spPr>
      </p:pic>
      <p:sp>
        <p:nvSpPr>
          <p:cNvPr id="199" name="矩形 5"/>
          <p:cNvSpPr/>
          <p:nvPr/>
        </p:nvSpPr>
        <p:spPr>
          <a:xfrm>
            <a:off x="380880" y="3200400"/>
            <a:ext cx="4038840" cy="914400"/>
          </a:xfrm>
          <a:prstGeom prst="rect">
            <a:avLst/>
          </a:prstGeom>
          <a:noFill/>
          <a:ln cap="rnd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04920" y="687240"/>
            <a:ext cx="860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提交身份证明材料的要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57200" y="1447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身份证丢失的，须提供公安部门出具的证明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66560" y="2362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需提交二代身份证的原件，一代身份证不予受理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93560" y="3352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身份证复印件需将身份证的正反两面复印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A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纸的同一面上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04920" y="687240"/>
            <a:ext cx="860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提交学历证明材料的要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57200" y="1447920"/>
            <a:ext cx="8458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教师资格认定的有效学历是指国民教育系列学历，不包括党校、干部函授大学、研究生班学历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在国外取得的学历，须通过教育部留学服务中心学历学位鉴定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可作为认定相应教师资格的合格学历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取得两个以上大学专科毕业证书的，不能等同于大学本科毕业学历，不能作为本科学历申请认定高等学校教师资格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学历证书丢失，须原毕业学校出具证明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04920" y="687240"/>
            <a:ext cx="860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提交岗前培训证明材料的要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7200" y="1447920"/>
            <a:ext cx="8458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年以前参加工作的申请人员提交岗培证书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年（含）以后参加工作的申请人员提交教师资格教育基础理论考试合格证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、具有博士学位、副教授及以上职称和师范类本科毕业的申请人员提交岗前培训证书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年未参加岗前培训的新进人员暂不参加此次认定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04920" y="687240"/>
            <a:ext cx="860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提交体检表的要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44792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、应在县级及以上医疗机构体（一般是三甲以上）检合格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、从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0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年起，教师资格认定体检项目取消乙肝项目检测，俗称“乙肝五项”和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V-DNA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检测。继续保留丙氨酸氨基转移酶（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，简称转氨酶）检测作为体检项目。如果受检者转氨酶正常，不得进行乙肝项目检测；如果转氨酶异常，可进一步明确诊断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、体检时间要求：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5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年元旦以后参加体检后填写的《检查表》均可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、体检结束须由主检医师填写结论性意见（合格或不合格），并签字，盖医院公章，缺一不可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04920" y="687240"/>
            <a:ext cx="860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提交普通话证明材料的要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685800" y="2286000"/>
            <a:ext cx="7924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、普通话水平测试等级需在二级乙等以上，今后再无证书有效期的要求，即长期有效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、普通话水平测试等级证书在全国范围内通用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4876920" y="21337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54880"/>
            <a:ext cx="8604000" cy="11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提交“教育学”“心理学”证明材料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Segoe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02440" cy="484668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5"/>
          <p:cNvSpPr/>
          <p:nvPr/>
        </p:nvSpPr>
        <p:spPr>
          <a:xfrm>
            <a:off x="1054080" y="1981080"/>
            <a:ext cx="3505320" cy="3657600"/>
          </a:xfrm>
          <a:prstGeom prst="wedgeRectCallout">
            <a:avLst>
              <a:gd name="adj1" fmla="val 2175"/>
              <a:gd name="adj2" fmla="val -42796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成绩登记表必须从档案中复印出来，要有学生姓名、毕业学校教务处章，并用红笔划出“教育学”、“心理学”和“教育实习”成绩；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019920" y="4419720"/>
            <a:ext cx="1752480" cy="1752480"/>
          </a:xfrm>
          <a:prstGeom prst="ellipse">
            <a:avLst/>
          </a:prstGeom>
          <a:noFill/>
          <a:ln cap="rnd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教学任务书样本"/>
          <p:cNvPicPr/>
          <p:nvPr/>
        </p:nvPicPr>
        <p:blipFill>
          <a:blip r:embed="rId2"/>
          <a:stretch/>
        </p:blipFill>
        <p:spPr>
          <a:xfrm>
            <a:off x="304920" y="304920"/>
            <a:ext cx="8569080" cy="62593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"/>
          <p:cNvSpPr/>
          <p:nvPr/>
        </p:nvSpPr>
        <p:spPr>
          <a:xfrm>
            <a:off x="1187280" y="2924280"/>
            <a:ext cx="5545440" cy="757080"/>
          </a:xfrm>
          <a:prstGeom prst="wedgeRectCallout">
            <a:avLst>
              <a:gd name="adj1" fmla="val -14023"/>
              <a:gd name="adj2" fmla="val -155351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显示申请人详细任课情况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55640" y="1773360"/>
            <a:ext cx="784872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2280"/>
            <a:ext cx="860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交任课证明材料的要求</a:t>
            </a:r>
            <a:br>
              <a:rPr sz="3600"/>
            </a:br>
            <a:endParaRPr b="0" lang="en-US" sz="32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6732720" y="4653000"/>
            <a:ext cx="1871640" cy="158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826920" y="5084640"/>
            <a:ext cx="5113440" cy="1152720"/>
          </a:xfrm>
          <a:prstGeom prst="wedgeRectCallout">
            <a:avLst>
              <a:gd name="adj1" fmla="val 63972"/>
              <a:gd name="adj2" fmla="val 3717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由学校教务处盖章，不能以其他部门印章代替；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905120" y="2590920"/>
            <a:ext cx="510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77000"/>
                    </a:srgbClr>
                  </a:outerShdw>
                </a:effectLst>
                <a:latin typeface="宋体"/>
              </a:rPr>
              <a:t>个人网上申请流程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905120" y="2590920"/>
            <a:ext cx="5105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77000"/>
                    </a:srgbClr>
                  </a:outerShdw>
                </a:effectLst>
                <a:latin typeface="宋体"/>
              </a:rPr>
              <a:t> 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2" descr="C:\Users\LiH\Desktop\2014年教师资格认证\11.jpg"/>
          <p:cNvPicPr/>
          <p:nvPr/>
        </p:nvPicPr>
        <p:blipFill>
          <a:blip r:embed="rId2"/>
          <a:stretch/>
        </p:blipFill>
        <p:spPr>
          <a:xfrm>
            <a:off x="-9360" y="380880"/>
            <a:ext cx="927720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Segoe"/>
                <a:ea typeface="宋体"/>
              </a:rPr>
              <a:t>注意：省里强调网络只在</a:t>
            </a:r>
            <a:r>
              <a:rPr b="0" lang="en-US" sz="3600" spc="-1" strike="noStrike">
                <a:solidFill>
                  <a:srgbClr val="ffcc00"/>
                </a:solidFill>
                <a:latin typeface="Segoe"/>
                <a:ea typeface="宋体"/>
              </a:rPr>
              <a:t>5</a:t>
            </a:r>
            <a:r>
              <a:rPr b="0" lang="zh-CN" sz="3600" spc="-1" strike="noStrike">
                <a:solidFill>
                  <a:srgbClr val="ffcc00"/>
                </a:solidFill>
                <a:latin typeface="Segoe"/>
                <a:ea typeface="宋体"/>
              </a:rPr>
              <a:t>月</a:t>
            </a:r>
            <a:r>
              <a:rPr b="0" lang="en-US" sz="3600" spc="-1" strike="noStrike">
                <a:solidFill>
                  <a:srgbClr val="ffcc00"/>
                </a:solidFill>
                <a:latin typeface="Segoe"/>
                <a:ea typeface="宋体"/>
              </a:rPr>
              <a:t>15</a:t>
            </a:r>
            <a:r>
              <a:rPr b="0" lang="zh-CN" sz="3600" spc="-1" strike="noStrike">
                <a:solidFill>
                  <a:srgbClr val="ffcc00"/>
                </a:solidFill>
                <a:latin typeface="Segoe"/>
                <a:ea typeface="宋体"/>
              </a:rPr>
              <a:t>日</a:t>
            </a:r>
            <a:r>
              <a:rPr b="0" lang="en-US" sz="3600" spc="-1" strike="noStrike">
                <a:solidFill>
                  <a:srgbClr val="ffcc00"/>
                </a:solidFill>
                <a:latin typeface="Segoe"/>
                <a:ea typeface="宋体"/>
              </a:rPr>
              <a:t>-25</a:t>
            </a:r>
            <a:r>
              <a:rPr b="0" lang="zh-CN" sz="3600" spc="-1" strike="noStrike">
                <a:solidFill>
                  <a:srgbClr val="ffcc00"/>
                </a:solidFill>
                <a:latin typeface="Segoe"/>
                <a:ea typeface="宋体"/>
              </a:rPr>
              <a:t>日期间工作时间开放注册！</a:t>
            </a:r>
            <a:endParaRPr b="0" lang="en-US" sz="36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1417320"/>
            <a:ext cx="841068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0" y="1447920"/>
            <a:ext cx="9182160" cy="5010120"/>
          </a:xfrm>
          <a:prstGeom prst="rect">
            <a:avLst/>
          </a:prstGeom>
          <a:ln w="0">
            <a:noFill/>
          </a:ln>
        </p:spPr>
      </p:pic>
      <p:sp>
        <p:nvSpPr>
          <p:cNvPr id="115" name="矩形 1"/>
          <p:cNvSpPr/>
          <p:nvPr/>
        </p:nvSpPr>
        <p:spPr>
          <a:xfrm>
            <a:off x="1676520" y="4572000"/>
            <a:ext cx="1523880" cy="533520"/>
          </a:xfrm>
          <a:prstGeom prst="rect">
            <a:avLst/>
          </a:prstGeom>
          <a:noFill/>
          <a:ln cap="rnd"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椭圆 4"/>
          <p:cNvSpPr/>
          <p:nvPr/>
        </p:nvSpPr>
        <p:spPr>
          <a:xfrm>
            <a:off x="2225520" y="5214960"/>
            <a:ext cx="457200" cy="390600"/>
          </a:xfrm>
          <a:prstGeom prst="ellipse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  <a:ea typeface="宋体"/>
            </a:endParaRPr>
          </a:p>
        </p:txBody>
      </p:sp>
      <p:pic>
        <p:nvPicPr>
          <p:cNvPr id="118" name="Picture 2" descr="C:\Users\LiH\Desktop\2014年教师资格认证\33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1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LiH\Desktop\2014年教师资格认证\44.jpg"/>
          <p:cNvPicPr/>
          <p:nvPr/>
        </p:nvPicPr>
        <p:blipFill>
          <a:blip r:embed="rId2"/>
          <a:stretch/>
        </p:blipFill>
        <p:spPr>
          <a:xfrm>
            <a:off x="0" y="809640"/>
            <a:ext cx="9159840" cy="546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  <a:ea typeface="宋体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-17640" y="228600"/>
            <a:ext cx="9144000" cy="6302520"/>
          </a:xfrm>
          <a:prstGeom prst="rect">
            <a:avLst/>
          </a:prstGeom>
          <a:ln w="0">
            <a:noFill/>
          </a:ln>
        </p:spPr>
      </p:pic>
      <p:sp>
        <p:nvSpPr>
          <p:cNvPr id="122" name="矩形 4"/>
          <p:cNvSpPr/>
          <p:nvPr/>
        </p:nvSpPr>
        <p:spPr>
          <a:xfrm>
            <a:off x="457200" y="2971800"/>
            <a:ext cx="4267080" cy="2438280"/>
          </a:xfrm>
          <a:prstGeom prst="rect">
            <a:avLst/>
          </a:prstGeom>
          <a:noFill/>
          <a:ln cap="rnd"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椭圆 5"/>
          <p:cNvSpPr/>
          <p:nvPr/>
        </p:nvSpPr>
        <p:spPr>
          <a:xfrm>
            <a:off x="2225520" y="5410080"/>
            <a:ext cx="457200" cy="390600"/>
          </a:xfrm>
          <a:prstGeom prst="ellipse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-17640" y="174600"/>
            <a:ext cx="9144000" cy="6302520"/>
          </a:xfrm>
          <a:prstGeom prst="rect">
            <a:avLst/>
          </a:prstGeom>
          <a:ln w="0">
            <a:noFill/>
          </a:ln>
        </p:spPr>
      </p:pic>
      <p:sp>
        <p:nvSpPr>
          <p:cNvPr id="125" name="矩形 7"/>
          <p:cNvSpPr/>
          <p:nvPr/>
        </p:nvSpPr>
        <p:spPr>
          <a:xfrm>
            <a:off x="457200" y="2819520"/>
            <a:ext cx="4267080" cy="2981160"/>
          </a:xfrm>
          <a:prstGeom prst="rect">
            <a:avLst/>
          </a:prstGeom>
          <a:noFill/>
          <a:ln cap="rnd"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椭圆 8"/>
          <p:cNvSpPr/>
          <p:nvPr/>
        </p:nvSpPr>
        <p:spPr>
          <a:xfrm>
            <a:off x="2225520" y="5946840"/>
            <a:ext cx="457200" cy="390600"/>
          </a:xfrm>
          <a:prstGeom prst="ellipse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矩形 9"/>
          <p:cNvSpPr/>
          <p:nvPr/>
        </p:nvSpPr>
        <p:spPr>
          <a:xfrm>
            <a:off x="6046920" y="5948280"/>
            <a:ext cx="1523880" cy="533520"/>
          </a:xfrm>
          <a:prstGeom prst="rect">
            <a:avLst/>
          </a:prstGeom>
          <a:noFill/>
          <a:ln cap="rnd"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72400" y="6019920"/>
            <a:ext cx="457200" cy="390240"/>
          </a:xfrm>
          <a:prstGeom prst="ellipse">
            <a:avLst/>
          </a:prstGeom>
          <a:noFill/>
          <a:ln cap="rnd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00:57:58Z</dcterms:created>
  <dc:creator>LiH</dc:creator>
  <dc:description/>
  <dc:language>en-US</dc:language>
  <cp:lastModifiedBy>LiH</cp:lastModifiedBy>
  <dcterms:modified xsi:type="dcterms:W3CDTF">2015-05-11T03:01:36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